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CBA-E95B-4AE9-96C3-3E5A2A8A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21D-F764-4D5B-91C3-00A76935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9BA-DD55-47D9-9C04-9076B20D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050-11DC-49FC-951F-42158D52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DCB-5613-4DBA-8ED9-FF0F49D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BA1-A1B9-4B69-891C-A0ABE4ED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9FD-F01F-4692-8CFD-70A06926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510-49C9-4F43-8696-FA485287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C70-AAF5-41A1-B265-F1EBFE00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A2C-082E-42D3-922E-A95CC5C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63A-CA51-4812-84FA-892BF70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35C-9194-4ED2-BE68-C4B4099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546-03C2-412E-A6B8-8B318AB9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960" y="201600"/>
            <a:ext cx="864252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06520"/>
            <a:ext cx="820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E-tutor facilitato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: strategie di facili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4158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proporzionali all’incremento della expertise metodologica del cors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95440" y="2637000"/>
          <a:ext cx="8208720" cy="1896840"/>
        </p:xfrm>
        <a:graphic>
          <a:graphicData uri="http://schemas.openxmlformats.org/drawingml/2006/table">
            <a:tbl>
              <a:tblPr/>
              <a:tblGrid>
                <a:gridCol w="2160360"/>
                <a:gridCol w="2016360"/>
                <a:gridCol w="2016000"/>
                <a:gridCol w="2016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Familiarizzazione metod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iflessione dia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ooperazione assist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ooperazione autogest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530360" y="3416400"/>
            <a:ext cx="216000" cy="576000"/>
          </a:xfrm>
          <a:prstGeom prst="upDownArrow">
            <a:avLst>
              <a:gd name="adj1" fmla="val 50000"/>
              <a:gd name="adj2" fmla="val 53086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19440" y="3419640"/>
            <a:ext cx="216000" cy="576000"/>
          </a:xfrm>
          <a:prstGeom prst="upDownArrow">
            <a:avLst>
              <a:gd name="adj1" fmla="val 50000"/>
              <a:gd name="adj2" fmla="val 53086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07080" y="3429000"/>
            <a:ext cx="216000" cy="576360"/>
          </a:xfrm>
          <a:prstGeom prst="upDownArrow">
            <a:avLst>
              <a:gd name="adj1" fmla="val 50000"/>
              <a:gd name="adj2" fmla="val 53119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80160" y="3429000"/>
            <a:ext cx="216000" cy="576360"/>
          </a:xfrm>
          <a:prstGeom prst="upDownArrow">
            <a:avLst>
              <a:gd name="adj1" fmla="val 50000"/>
              <a:gd name="adj2" fmla="val 53119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4400" y="5189400"/>
            <a:ext cx="72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tta dallo schema di  Paula de Waal – Università di Padov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02A-972D-4ECF-A0FD-88BD1E3D7593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OPERAZIONE AUTOGES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INUA ANCHE AL TERMINE DELLA FORM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 spazi sempre maggiormente allarg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sa possibile dall’intero 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orsisti sono un team work e autonomamente come gruppo, non singolarmente, producono materiali, discutono prodotti raggiungendo autonomamente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BA6-2B4F-4504-A13C-E612E0D2CE65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OPERAZIONE AUTOGES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2354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 CONSU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1920" y="5704920"/>
            <a:ext cx="85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tutor, esperto di processi, interviene su richiesta oppure diventa un attore tra p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427120"/>
          <a:ext cx="403848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27120"/>
                    <a:ext cx="403848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7160" y="1954080"/>
            <a:ext cx="6983640" cy="310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F0A-8405-4375-9743-EDBB45B93C85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5480" y="765000"/>
            <a:ext cx="7924680" cy="511200"/>
            <a:chOff x="825480" y="765000"/>
            <a:chExt cx="7924680" cy="511200"/>
          </a:xfrm>
        </p:grpSpPr>
        <p:sp>
          <p:nvSpPr>
            <p:cNvPr id="127" name=""/>
            <p:cNvSpPr/>
            <p:nvPr/>
          </p:nvSpPr>
          <p:spPr>
            <a:xfrm>
              <a:off x="2556000" y="1196640"/>
              <a:ext cx="4390920" cy="0"/>
            </a:xfrm>
            <a:prstGeom prst="line">
              <a:avLst/>
            </a:prstGeom>
            <a:ln w="22320">
              <a:solidFill>
                <a:srgbClr val="006600"/>
              </a:solidFill>
              <a:prstDash val="lgDash"/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5480" y="836280"/>
              <a:ext cx="1657440" cy="4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2200" y="7650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flus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6920" y="907920"/>
              <a:ext cx="165600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93080" y="842760"/>
              <a:ext cx="165708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93080" y="907920"/>
              <a:ext cx="165564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6400" y="3692520"/>
            <a:ext cx="605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l tutor deve essere sensibile nell’individuare stanchezza e fatica nei corsisti mettendo in funzione PULL ovvero allentando il carico di lavoro rendendo soft l’impeg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Quando invece i corsisti sono freschi e con entusiasmo usa PUSH premendo sull’acceleratore del lavoro per ottenere risultati maggi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utor quindi sensibile allo stato d’animo dei corsi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UTOR CHE ILLUMINA – ORIENTA – INDICA IL PERCORSO SICURO – INDICA I PERI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2114640" y="1197000"/>
            <a:ext cx="2114640" cy="2867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612360" y="1557360"/>
            <a:ext cx="192384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43640" y="6858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140360" y="-93348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BEE-5A3A-4035-93A9-7E3BD191EDB0}" type="slidenum">
              <a:t>12</a:t>
            </a:fld>
          </a:p>
        </p:txBody>
      </p:sp>
    </p:spTree>
  </p:cSld>
  <p:transition spd="slow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L -0.28628 0.00301 E">
                                      <p:cBhvr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11667 L -0.0007 0.45 E">
                                      <p:cBhvr>
                                        <p:cTn id="3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AMILIARIZZAZIONE METODO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miliarizzare con una metodologia non trasmissiva, m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operativ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d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ci sono vincoli spazio-temporali se non quelli degli incontri in pres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ci sono scelte obbligate, ma la possibilità di costruire un percorso formativo personalizz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 è un percorso che integra attività in presenza e 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 è la possibilità di partecipazione a community più o meno allar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C47-774F-44DF-AA32-6909B8094FFD}" type="slidenum">
              <a:t>2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AMILIARIZZAZIONE METODO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2880" y="1257480"/>
            <a:ext cx="805824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859-4F97-4B50-970E-B79BCC7CCE9E}" type="slidenum">
              <a:t>3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AMILIARIZZAZIONE METODO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197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 ALLEN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638000"/>
            <a:ext cx="51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e n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metodologia utilizzata nel corso di formazione di Ind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n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corsisti sul lavoro da fare in presenza e su quello che faranno nella piattaforma. In particolare deve saper anche prevedere e anticipare le eventua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ol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n correre successivamente ai ripari ed evidenziare nuove opportunit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sta fase l’e-tu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os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che ogni corsista cioè le sue intenzioni (ambizioni) professionali, il profilo formativo generale, le sue aspettative, le sue competen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1319040"/>
            <a:ext cx="7756560" cy="5024520"/>
            <a:chOff x="685800" y="1319040"/>
            <a:chExt cx="7756560" cy="5024520"/>
          </a:xfrm>
        </p:grpSpPr>
        <p:sp>
          <p:nvSpPr>
            <p:cNvPr id="61" name="_s3082"/>
            <p:cNvSpPr/>
            <p:nvPr/>
          </p:nvSpPr>
          <p:spPr>
            <a:xfrm>
              <a:off x="685800" y="2305080"/>
              <a:ext cx="1057320" cy="1000080"/>
            </a:xfrm>
            <a:prstGeom prst="ellipse">
              <a:avLst/>
            </a:prstGeom>
            <a:solidFill>
              <a:srgbClr val="f9f67f">
                <a:alpha val="29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3"/>
            <p:cNvSpPr/>
            <p:nvPr/>
          </p:nvSpPr>
          <p:spPr>
            <a:xfrm>
              <a:off x="4127400" y="131904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8"/>
            <p:cNvSpPr/>
            <p:nvPr/>
          </p:nvSpPr>
          <p:spPr>
            <a:xfrm>
              <a:off x="1585800" y="3657600"/>
              <a:ext cx="1071720" cy="985680"/>
            </a:xfrm>
            <a:prstGeom prst="ellipse">
              <a:avLst/>
            </a:prstGeom>
            <a:solidFill>
              <a:srgbClr val="ffcc00">
                <a:alpha val="2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9"/>
            <p:cNvSpPr/>
            <p:nvPr/>
          </p:nvSpPr>
          <p:spPr>
            <a:xfrm>
              <a:off x="6170760" y="2479680"/>
              <a:ext cx="890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90"/>
            <p:cNvSpPr/>
            <p:nvPr/>
          </p:nvSpPr>
          <p:spPr>
            <a:xfrm>
              <a:off x="7413480" y="2011320"/>
              <a:ext cx="1028880" cy="1042920"/>
            </a:xfrm>
            <a:prstGeom prst="ellipse">
              <a:avLst/>
            </a:prstGeom>
            <a:solidFill>
              <a:srgbClr val="ff9933">
                <a:alpha val="19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91"/>
            <p:cNvSpPr/>
            <p:nvPr/>
          </p:nvSpPr>
          <p:spPr>
            <a:xfrm>
              <a:off x="5560920" y="4788000"/>
              <a:ext cx="890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84"/>
            <p:cNvSpPr/>
            <p:nvPr/>
          </p:nvSpPr>
          <p:spPr>
            <a:xfrm>
              <a:off x="7086600" y="5514840"/>
              <a:ext cx="885960" cy="828720"/>
            </a:xfrm>
            <a:prstGeom prst="ellipse">
              <a:avLst/>
            </a:prstGeom>
            <a:solidFill>
              <a:srgbClr val="ff6600">
                <a:alpha val="15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85"/>
            <p:cNvSpPr/>
            <p:nvPr/>
          </p:nvSpPr>
          <p:spPr>
            <a:xfrm>
              <a:off x="2693880" y="478944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86"/>
            <p:cNvSpPr/>
            <p:nvPr/>
          </p:nvSpPr>
          <p:spPr>
            <a:xfrm>
              <a:off x="814320" y="4915080"/>
              <a:ext cx="928800" cy="885600"/>
            </a:xfrm>
            <a:prstGeom prst="ellipse">
              <a:avLst/>
            </a:prstGeom>
            <a:solidFill>
              <a:srgbClr val="ff0000">
                <a:alpha val="18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087"/>
            <p:cNvSpPr/>
            <p:nvPr/>
          </p:nvSpPr>
          <p:spPr>
            <a:xfrm>
              <a:off x="2081160" y="248112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91E-660E-496D-9CC3-386157344076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IFLESSIONE DIA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flessione in relazione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uti offerti durante il corso e loro trasferibilità in un contesto edu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taggi e svantaggi della metodologia in rapporto ad un sistema educativo tradi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 e processo di comun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FFE-4237-48F1-93F0-7FB50BE46DD5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IFLESSIONE DIA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4280" y="1514520"/>
            <a:ext cx="8515440" cy="3828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9680" y="4340160"/>
            <a:ext cx="709560" cy="368280"/>
          </a:xfrm>
          <a:custGeom>
            <a:avLst/>
            <a:gdLst>
              <a:gd name="textAreaLeft" fmla="*/ 23760 w 709560"/>
              <a:gd name="textAreaRight" fmla="*/ 685800 w 70956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41597" h="21600">
                <a:moveTo>
                  <a:pt x="0" y="0"/>
                </a:moveTo>
                <a:lnTo>
                  <a:pt x="41597" y="0"/>
                </a:lnTo>
                <a:lnTo>
                  <a:pt x="41597" y="21600"/>
                </a:lnTo>
                <a:lnTo>
                  <a:pt x="0" y="21600"/>
                </a:lnTo>
                <a:close/>
              </a:path>
              <a:path fill="lightenLess" w="41597" h="21600">
                <a:moveTo>
                  <a:pt x="0" y="0"/>
                </a:moveTo>
                <a:lnTo>
                  <a:pt x="41597" y="0"/>
                </a:lnTo>
                <a:lnTo>
                  <a:pt x="40197" y="1400"/>
                </a:lnTo>
                <a:lnTo>
                  <a:pt x="1400" y="1400"/>
                </a:lnTo>
                <a:close/>
              </a:path>
              <a:path fill="darken" w="41597" h="21600">
                <a:moveTo>
                  <a:pt x="41597" y="0"/>
                </a:moveTo>
                <a:lnTo>
                  <a:pt x="41597" y="21600"/>
                </a:lnTo>
                <a:lnTo>
                  <a:pt x="40197" y="20200"/>
                </a:lnTo>
                <a:lnTo>
                  <a:pt x="40197" y="1400"/>
                </a:lnTo>
                <a:close/>
              </a:path>
              <a:path fill="darkenLess" w="41597" h="21600">
                <a:moveTo>
                  <a:pt x="41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97" y="20200"/>
                </a:lnTo>
                <a:close/>
              </a:path>
              <a:path fill="lighten" w="41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B1D-DE8B-40B5-9113-360D6E5F6C53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IFLESSIONE DIA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197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 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637000"/>
            <a:ext cx="523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tutor modera la discussione riflessiva. Il risultato è condiviso da tut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sta fase l’e-tutor stipula i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o forma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 i corsist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elaborato, accettato e condiviso da tut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28480" y="1319040"/>
            <a:ext cx="6532560" cy="3899160"/>
            <a:chOff x="528480" y="1319040"/>
            <a:chExt cx="6532560" cy="3899160"/>
          </a:xfrm>
        </p:grpSpPr>
        <p:sp>
          <p:nvSpPr>
            <p:cNvPr id="83" name="_s10250"/>
            <p:cNvSpPr/>
            <p:nvPr/>
          </p:nvSpPr>
          <p:spPr>
            <a:xfrm>
              <a:off x="528480" y="3548160"/>
              <a:ext cx="800280" cy="79992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51"/>
            <p:cNvSpPr/>
            <p:nvPr/>
          </p:nvSpPr>
          <p:spPr>
            <a:xfrm>
              <a:off x="4127400" y="131904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56"/>
            <p:cNvSpPr/>
            <p:nvPr/>
          </p:nvSpPr>
          <p:spPr>
            <a:xfrm>
              <a:off x="1890720" y="3711600"/>
              <a:ext cx="785880" cy="799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57"/>
            <p:cNvSpPr/>
            <p:nvPr/>
          </p:nvSpPr>
          <p:spPr>
            <a:xfrm>
              <a:off x="6170760" y="2479680"/>
              <a:ext cx="890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258"/>
            <p:cNvSpPr/>
            <p:nvPr/>
          </p:nvSpPr>
          <p:spPr>
            <a:xfrm>
              <a:off x="1527120" y="4411800"/>
              <a:ext cx="814320" cy="79992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259"/>
            <p:cNvSpPr/>
            <p:nvPr/>
          </p:nvSpPr>
          <p:spPr>
            <a:xfrm>
              <a:off x="5361120" y="4788000"/>
              <a:ext cx="890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252"/>
            <p:cNvSpPr/>
            <p:nvPr/>
          </p:nvSpPr>
          <p:spPr>
            <a:xfrm>
              <a:off x="685800" y="4343400"/>
              <a:ext cx="828720" cy="8143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53"/>
            <p:cNvSpPr/>
            <p:nvPr/>
          </p:nvSpPr>
          <p:spPr>
            <a:xfrm>
              <a:off x="2693880" y="478944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254"/>
            <p:cNvSpPr/>
            <p:nvPr/>
          </p:nvSpPr>
          <p:spPr>
            <a:xfrm>
              <a:off x="1236600" y="3213000"/>
              <a:ext cx="814320" cy="8143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55"/>
            <p:cNvSpPr/>
            <p:nvPr/>
          </p:nvSpPr>
          <p:spPr>
            <a:xfrm>
              <a:off x="2081160" y="395280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4F5-87C9-4DD2-B027-9535DDE9D80C}" type="slidenum">
              <a:t>7</a:t>
            </a:fld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OPERAZIONE ASSIS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orsisti lavorano in work group in presenza e 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2800" y="3033720"/>
            <a:ext cx="822636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535-783A-41BE-BA55-0C0045EB4C69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49360"/>
            <a:ext cx="7777080" cy="368280"/>
          </a:xfrm>
          <a:prstGeom prst="rect">
            <a:avLst/>
          </a:prstGeom>
          <a:gradFill rotWithShape="0">
            <a:gsLst>
              <a:gs pos="0">
                <a:srgbClr val="ffd47d"/>
              </a:gs>
              <a:gs pos="100000">
                <a:srgbClr val="fef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OPERAZIONE ASSIS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197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 SUPERVIS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22900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re guida e supervi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alida il lavoro cooper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89560" y="1525680"/>
            <a:ext cx="3628800" cy="3439800"/>
            <a:chOff x="4489560" y="1525680"/>
            <a:chExt cx="3628800" cy="3439800"/>
          </a:xfrm>
        </p:grpSpPr>
        <p:sp>
          <p:nvSpPr>
            <p:cNvPr id="102" name="_s15400"/>
            <p:cNvSpPr/>
            <p:nvPr/>
          </p:nvSpPr>
          <p:spPr>
            <a:xfrm>
              <a:off x="5546880" y="2054160"/>
              <a:ext cx="1514160" cy="151452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5401"/>
            <p:cNvSpPr/>
            <p:nvPr/>
          </p:nvSpPr>
          <p:spPr>
            <a:xfrm>
              <a:off x="6102360" y="1525680"/>
              <a:ext cx="4032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ecip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402"/>
            <p:cNvSpPr/>
            <p:nvPr/>
          </p:nvSpPr>
          <p:spPr>
            <a:xfrm>
              <a:off x="6094440" y="2450880"/>
              <a:ext cx="1514520" cy="15145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403"/>
            <p:cNvSpPr/>
            <p:nvPr/>
          </p:nvSpPr>
          <p:spPr>
            <a:xfrm>
              <a:off x="7715160" y="2550960"/>
              <a:ext cx="4032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ecip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404"/>
            <p:cNvSpPr/>
            <p:nvPr/>
          </p:nvSpPr>
          <p:spPr>
            <a:xfrm>
              <a:off x="5886360" y="3095640"/>
              <a:ext cx="1514520" cy="151452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405"/>
            <p:cNvSpPr/>
            <p:nvPr/>
          </p:nvSpPr>
          <p:spPr>
            <a:xfrm>
              <a:off x="7175520" y="4587840"/>
              <a:ext cx="4032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ecip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406"/>
            <p:cNvSpPr/>
            <p:nvPr/>
          </p:nvSpPr>
          <p:spPr>
            <a:xfrm>
              <a:off x="5208480" y="3097080"/>
              <a:ext cx="1514520" cy="15145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5407"/>
            <p:cNvSpPr/>
            <p:nvPr/>
          </p:nvSpPr>
          <p:spPr>
            <a:xfrm>
              <a:off x="5027760" y="4586040"/>
              <a:ext cx="4032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ecip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5408"/>
            <p:cNvSpPr/>
            <p:nvPr/>
          </p:nvSpPr>
          <p:spPr>
            <a:xfrm>
              <a:off x="4997520" y="2452680"/>
              <a:ext cx="1514520" cy="1514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5409"/>
            <p:cNvSpPr/>
            <p:nvPr/>
          </p:nvSpPr>
          <p:spPr>
            <a:xfrm>
              <a:off x="4489560" y="2549520"/>
              <a:ext cx="4032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ecip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64000" y="2852640"/>
              <a:ext cx="20163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OSCENZ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ETEN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908000" y="17002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79840" y="1430280"/>
            <a:ext cx="180324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onell@ picco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DC5-A01A-4EDA-926C-A83383887520}" type="slidenum">
              <a:t>9</a:t>
            </a:fld>
          </a:p>
        </p:txBody>
      </p:sp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38:18Z</dcterms:created>
  <dc:creator>Antonella Piccolo</dc:creator>
  <dc:description/>
  <dc:language>en-US</dc:language>
  <cp:lastModifiedBy>Antonella Piccolo</cp:lastModifiedBy>
  <dcterms:modified xsi:type="dcterms:W3CDTF">2005-02-27T22:03:43Z</dcterms:modified>
  <cp:revision>28</cp:revision>
  <dc:subject/>
  <dc:title>Diapositiva 1</dc:title>
</cp:coreProperties>
</file>